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32D-74F5-4F31-9117-0FE0A28C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E58-EFF9-471B-A899-9A0CE6F6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DE4-799D-4B50-AC38-B799BD89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913-4725-4F92-9204-ED8FDC83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EFFE-DE3F-4BC0-B75C-DCCC66F9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1D64-CC83-4689-B378-6C8B32AD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995E-C694-4047-9118-9B7F4B12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5CA9-53FB-44A1-98F8-13F0228B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5676-02E8-4A55-9EDB-0BC07D81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E641-285F-41BA-8D3A-DF55C590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A559-D234-40F5-AAF8-2C40B3CA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91C-870B-41C8-904F-E0A97FE5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F443-90F6-49D9-BB7B-10416064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0586-6BC6-41A5-A2CD-9662C29A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9A62-BA1E-4327-8AF3-0686D149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532D-3D01-4E23-9EE1-6944C3E5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5B05-6894-4DCF-8E2C-14E49F03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B58-3888-43CE-B19C-4FC46408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C17-95D8-4CDF-916A-40F55831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295-8B96-4D0E-B89B-66E959F6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032-8D67-4235-B7CE-C5910192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067-4C83-4761-80C7-338C32DD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034-6902-4A7C-B67F-52502D0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52A-C813-4528-8E1B-256E5F4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D00F-8FDF-48BF-AF5C-E664ABE3E3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24CF-AC4A-4EDF-A48A-AEB4A39961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ismotp.crptech.ru/" TargetMode="External"/><Relationship Id="rId2" Type="http://schemas.openxmlformats.org/officeDocument/2006/relationships/hyperlink" Target="https://ismotp.crptech.ru/" TargetMode="External"/><Relationship Id="rId3" Type="http://schemas.openxmlformats.org/officeDocument/2006/relationships/hyperlink" Target="https://ismotp.crptech.r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info@crpt.ru" TargetMode="External"/><Relationship Id="rId3" Type="http://schemas.openxmlformats.org/officeDocument/2006/relationships/hyperlink" Target="mailto:motp@crpt.ru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40360" y="3500280"/>
            <a:ext cx="2952720" cy="3168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1280" y="1773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ркировка табачных изделий в розничных торговых объек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 01 марта 2019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95272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191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http://tt-consult.ru/images/news/n-25-09-2018.jpeg"/>
          <p:cNvPicPr/>
          <p:nvPr/>
        </p:nvPicPr>
        <p:blipFill>
          <a:blip r:embed="rId2"/>
          <a:stretch/>
        </p:blipFill>
        <p:spPr>
          <a:xfrm>
            <a:off x="3276720" y="2924280"/>
            <a:ext cx="5359320" cy="3744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907920"/>
            <a:ext cx="860436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ведение обязательной маркировки табачной продукции (с 01 марта 2019 года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гареты с фильтр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гареты без фильт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пи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пы внедрения маркировки табачной продукции для участников оборота табачной продукции, осуществляющих розничную прода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 01 марта 2019 года по 30 июня 2019 года (включительно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  в информационной системе мониторин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еспечение готовности собственных программно-аппаратных средств к информационному взаимодействию с информационной системой мониторин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хождение тестирования информационного взаимодействия собственных программно-аппаратных средств и информационной системы в порядке, размещенной на сайте операт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762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413000"/>
            <a:ext cx="849600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нужно делать рознич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приятиям торговли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 усиленную квалифицированную электронную подпись (УКЭП) от аккредитованного удостоверяющего центра и зарегистрироваться в информационной системе мониторинга оборота табачной продукции (МОТП) по адресу: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Times New Roman"/>
                <a:hlinkClick r:id="rId1"/>
              </a:rPr>
              <a:t>https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Times New Roman"/>
                <a:hlinkClick r:id="rId3"/>
              </a:rPr>
              <a:t>ismotp.crptech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можно через сайт ЦРП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сти онлайн-кассу и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канер (если имеется, обновить прошивк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лючить дополнительное соглашение с ОФД для передачи сведений в информационную систему маркировки (за исключением отдаленных от сетей связи местностя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новить товароучетную програм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пы внедрения маркировки табачной продукции для участников оборота табачной продукции, осуществляющих розничную продаж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 01 июля 2019 г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сение в информационную систему мониторинга сведений о розничной продаже табачно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водится запрет на производство табачной продукции, а также ввоз на территорию РФ сигарет и папирос без маркиро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762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пы внедрения маркировки табачной продукции для участников оборота табачной продукции, осуществляющих розничную продаж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 01 июля 2020 г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ы быть подключены к оператору электронного документооборота (ЭДО). С данного момента обмен документами между участниками оборота табачной продукции будет осуществляться через ЭД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территории Российской Федерации запрещается оборот сигарет и папирос немаркированных средствами идентифик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762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96360" y="0"/>
            <a:ext cx="1203120" cy="1557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4000" y="1484280"/>
            <a:ext cx="849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700280"/>
            <a:ext cx="720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РПТ - оператор Единой националь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ы цифро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ркировки и прослеживаемости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3789360"/>
            <a:ext cx="5556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актные данные опе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йт: </a:t>
            </a: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"/>
              </a:rPr>
              <a:t>https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</a:rPr>
              <a:t>://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</a:rPr>
              <a:t>чест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.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7(800)222-15-23,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7(800)707-23-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info@crpt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motp@crpt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@crpt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91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00:38:50Z</dcterms:created>
  <dc:creator>Admin</dc:creator>
  <dc:description/>
  <dc:language>en-US</dc:language>
  <cp:lastModifiedBy>Admin</cp:lastModifiedBy>
  <dcterms:modified xsi:type="dcterms:W3CDTF">2019-02-05T00:33:13Z</dcterms:modified>
  <cp:revision>11</cp:revision>
  <dc:subject/>
  <dc:title>Слайд 1</dc:title>
</cp:coreProperties>
</file>